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5DA-0BB6-4377-98E7-2FC74D40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40F-A734-415F-B6F9-60F2349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AD3-857E-4446-8823-DC48767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113-5343-4C86-9144-24C4271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70E-C0BC-43E1-BB49-E6394A0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E1B-614E-47B7-AB6E-FBDC12F9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F1D-5469-4B56-8235-7D57A0E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D2C-287F-42EF-BB33-7ACE2E0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B0C-ABB0-4354-86E4-66E892A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A34-D870-459D-8FC4-E9A4AEE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200-C591-40A5-853E-BCE9917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9EC-0C46-44BB-9EC8-494459D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67A-7381-493A-9C0C-9476860E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22160"/>
            <a:ext cx="89265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ages of Adaptation for Immigrant and Refugee Children and their Famil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Through 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4290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rument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eating into firs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ing that one must give up original culture in order to fit into 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a part of the mainstream culture while still holding onto customs and values of the origin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rative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mainstream phase” whereby based on their decisions in the previous phase, students experience ei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ltural Sp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a split between home life [first culture] and school (all aspects of out-of-home) life [second culture]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Accult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an acceptance and integration of parts of both cultures into his/her life and indicative of future academic success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grative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of embarrassment and lack of acceptance of first culture in the mai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epest level of the adaptation experience where an individual grows truly comfortable in the second culture while maintaining a deep and integrated connection with the first culture; typically doesn’t happen in the firs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ctors in 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Social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ultural Attit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sm vs Collect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CULTURAL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9335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ronological Stages of a Refugee’s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Asy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le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t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erent Experiences of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jo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ages of Adaptation for Immigrant and Refugee Children and their Famil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liminary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/Anticipation/Migration – Sometimes referred to as the “Honeymoon Stage” or “Initial Stage” including a time of euphoria --- if considered a “good” move, a child may be fascinated with everything and excite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, displays a desire to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ectator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when the concept of “change” overcomes the concept of newness and the reality of the situation sinks in.  Sometimes referred to as the “Silent Period” in language acquisiti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ful, lon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creasing Particip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Uprooting Stage”.  Survival instincts are awakened and the clash of the two cultures becomes apparent in all its complexity.  “One step forward, two steps b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 of varying emotions in combination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e Shock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overload/change in its most profound context resulting from a loss of all familiar signs, symbols, and cues of the original culture.  Creating a mistrust and fear of the new situation that may not have existed previously; most difficult time, when patience and tolerance are very important and impact all future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lture Shock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ed, frustrated, insecure, withdrawn, hostile; criticizes everything; academic problems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rumental Adaptation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referred to as the “adaptation period” when based on a variety of factors students make three choices about their future adaptation as a way of dealing with the emotional, educational and social issues in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--- Fight ---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0:55:55Z</dcterms:created>
  <dc:creator>John</dc:creator>
  <dc:description/>
  <dc:language>en-US</dc:language>
  <cp:lastModifiedBy>John</cp:lastModifiedBy>
  <dcterms:modified xsi:type="dcterms:W3CDTF">2007-07-23T19:36:41Z</dcterms:modified>
  <cp:revision>19</cp:revision>
  <dc:subject/>
  <dc:title>American Diversity and Its Impact on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29244054</vt:r8>
  </property>
  <property fmtid="{D5CDD505-2E9C-101B-9397-08002B2CF9AE}" pid="3" name="_AuthorEmail">
    <vt:lpwstr>jkibler@thecenterweb.org</vt:lpwstr>
  </property>
  <property fmtid="{D5CDD505-2E9C-101B-9397-08002B2CF9AE}" pid="4" name="_AuthorEmailDisplayName">
    <vt:lpwstr>John Kibler</vt:lpwstr>
  </property>
  <property fmtid="{D5CDD505-2E9C-101B-9397-08002B2CF9AE}" pid="5" name="_EmailSubject">
    <vt:lpwstr>immigration workshop</vt:lpwstr>
  </property>
</Properties>
</file>